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5C2-65F9-40B6-9845-339665E7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51E-C034-4063-8EEB-B97DF4D1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B56-05E4-4B62-A613-138C4D46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E3B-3C15-4FE7-A0DE-EB2F59E1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BF7-B9F8-491B-8C65-3322906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B2F-8DD5-43C6-AD69-5C50DA8D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EBD-B817-43CE-B1A0-2C570FF9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AE2-2195-435C-86E2-16590258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7A8-DD97-4364-8B2D-5FB50F7C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FBD-30A6-402E-B62B-FA33E3B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327-9A96-44E9-8702-D91FD96C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576-9F97-4488-841C-11F26CDB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3E1B-94E1-49A0-90EF-C9664F3DE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-Mail: Electronic Mail which allows individuals with an account to send messages to another person with an e-mail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IRC: Internet Relay Chat was developed in 1988 by Jarkko Oikarien &amp; allows instant online communicating with someone else who is online by typing messages back &amp; f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BBS: Bulletin Board Service allows a user to participate in a dicussion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22860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rajan Pro"/>
              </a:rPr>
              <a:t>Vocabulary 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rajan Pro"/>
              <a:ea typeface="Trajan Pro"/>
            </a:endParaRPr>
          </a:p>
        </p:txBody>
      </p:sp>
    </p:spTree>
  </p:cSld>
  <p:transition spd="slow" advTm="0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22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6700"/>
                            </p:stCondLst>
                            <p:childTnLst>
                              <p:par>
                                <p:cTn id="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420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7950"/>
                            </p:stCondLst>
                            <p:childTnLst>
                              <p:par>
                                <p:cTn id="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8450"/>
                            </p:stCondLst>
                            <p:childTnLst>
                              <p:par>
                                <p:cTn id="57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950"/>
                            </p:stCondLst>
                            <p:childTnLst>
                              <p:par>
                                <p:cTn id="64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9450"/>
                            </p:stCondLst>
                            <p:childTnLst>
                              <p:par>
                                <p:cTn id="71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9950"/>
                            </p:stCondLst>
                            <p:childTnLst>
                              <p:par>
                                <p:cTn id="78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450"/>
                            </p:stCondLst>
                            <p:childTnLst>
                              <p:par>
                                <p:cTn id="8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 rot="5400000">
            <a:off x="-2395440" y="3157200"/>
            <a:ext cx="6248520" cy="695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Thanks &amp; Love To:</a:t>
            </a:r>
            <a:endParaRPr b="1" lang="en-US" sz="4800" spc="-1" strike="noStrike">
              <a:ln w="12600">
                <a:solidFill>
                  <a:srgbClr val="c4b59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2209680"/>
            <a:ext cx="6705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Palace Script MT"/>
              </a:rPr>
              <a:t>Mrs. Lisa Weber</a:t>
            </a:r>
            <a:endParaRPr b="1" lang="en-US" sz="5400" spc="1" strike="noStrike">
              <a:ln w="324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Palace Script MT"/>
              <a:ea typeface="Palace Script MT"/>
            </a:endParaRPr>
          </a:p>
        </p:txBody>
      </p:sp>
    </p:spTree>
  </p:cSld>
  <p:transition spd="slow" advTm="0">
    <p:diamond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4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500"/>
                            </p:stCondLst>
                            <p:childTnLst>
                              <p:par>
                                <p:cTn id="451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ee00"/>
                </a:solidFill>
                <a:latin typeface="Forte"/>
              </a:rPr>
              <a:t>HTTP:</a:t>
            </a:r>
            <a:r>
              <a:rPr b="1" lang="en-US" sz="3600" spc="-1" strike="noStrike">
                <a:solidFill>
                  <a:srgbClr val="000000"/>
                </a:solidFill>
                <a:latin typeface="Forte"/>
              </a:rPr>
              <a:t> Hypertext Transfer Protocol is used for handling the transmission of pages between a web server and a web brows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ee00"/>
                </a:solidFill>
                <a:latin typeface="Forte"/>
              </a:rPr>
              <a:t>FTP:</a:t>
            </a:r>
            <a:r>
              <a:rPr b="1" lang="en-US" sz="3600" spc="-1" strike="noStrike">
                <a:solidFill>
                  <a:srgbClr val="000000"/>
                </a:solidFill>
                <a:latin typeface="Forte"/>
              </a:rPr>
              <a:t> File Transfer Protocol is used to rapidly transfer fi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ee00"/>
                </a:solidFill>
                <a:latin typeface="Forte"/>
              </a:rPr>
              <a:t>TELNET:</a:t>
            </a:r>
            <a:r>
              <a:rPr b="1" lang="en-US" sz="3600" spc="-1" strike="noStrike">
                <a:solidFill>
                  <a:srgbClr val="000000"/>
                </a:solidFill>
                <a:latin typeface="Forte"/>
              </a:rPr>
              <a:t> A program used on networks such as the internet to allow users to remotely log on to a server on the net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0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1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1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600"/>
                            </p:stCondLst>
                            <p:childTnLst>
                              <p:par>
                                <p:cTn id="132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Estrangelo Edessa"/>
              <a:buChar char="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GOPHER: One of the first widespread internet browsing servi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Estrangelo Edessa"/>
              <a:buChar char="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INTRANET: A network used by a single organization &amp; only accessible by authorized us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Estrangelo Edessa"/>
              <a:buChar char="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FIREWALL: A network security system that prevents unauthorized network ac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animClr clrSpc="rgb">
                                      <p:cBhvr>
                                        <p:cTn id="1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set>
                                      <p:cBhvr>
                                        <p:cTn id="1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set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set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ffff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Kozuka Gothic Pro B"/>
              <a:buChar char="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Extranet: An extended intranet that provides various levels of access to authorized members of the publ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Kozuka Gothic Pro B"/>
              <a:buChar char="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Online Profiling: A marketing technique that collects online data about consum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Kozuka Gothic Pro B"/>
              <a:buChar char="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Cookies: Small files  that contain information about the web sites an individual has visi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53 3.7037E-007 C 0.18628 -0.0581 0.25139 -0.1162 0.32135 -0.11019 C 0.39149 -0.10417 0.46128 0.03333 0.54149 0.03681 C 0.6217 0.04028 0.72292 -0.09028 0.80226 -0.08958 C 0.88142 -0.08889 0.96094 0.04792 1.01649 0.04143 C 1.07205 0.03495 1.1059 -0.11806 1.13576 -0.1287 C 1.1658 -0.13935 1.18559 -0.04051 1.19653 -0.02292 E">
                                      <p:cBhvr>
                                        <p:cTn id="20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99 2.96296E-006 C 0.11823 -0.0581 0.17882 -0.11621 0.24393 -0.11019 C 0.30903 -0.10417 0.37414 0.03333 0.44879 0.0368 C 0.52344 0.04027 0.61737 -0.09028 0.69132 -0.08959 C 0.76493 -0.08889 0.83889 0.04791 0.89063 0.04143 C 0.94219 0.03495 0.97362 -0.11806 1.00157 -0.12871 C 1.02934 -0.13935 1.04792 -0.04051 1.05799 -0.02292 E">
                                      <p:cBhvr>
                                        <p:cTn id="20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-4.44444E-006 C 0.14011 -0.0581 0.20625 -0.1162 0.27726 -0.11018 C 0.34844 -0.10416 0.41945 0.03334 0.50087 0.03681 C 0.58229 0.04028 0.68507 -0.09027 0.76563 -0.08958 C 0.84601 -0.08888 0.92674 0.04792 0.98316 0.04144 C 1.03958 0.03496 1.07396 -0.11805 1.10434 -0.1287 C 1.13472 -0.13935 1.15486 -0.0405 1.16597 -0.02291 E">
                                      <p:cBhvr>
                                        <p:cTn id="20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set>
                                      <p:cBhvr>
                                        <p:cTn id="212" dur="1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set>
                                      <p:cBhvr>
                                        <p:cTn id="222" dur="1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set>
                                      <p:cBhvr>
                                        <p:cTn id="232" dur="1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39ee00"/>
              </a:buClr>
              <a:buFont typeface="Kozuka Gothic Pro B"/>
              <a:buChar char="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ee00"/>
                </a:solidFill>
                <a:latin typeface="Tekton Pro Cond"/>
              </a:rPr>
              <a:t>Usenet: A collection of servers that offer Netnew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39ee00"/>
              </a:buClr>
              <a:buFont typeface="Kozuka Gothic Pro B"/>
              <a:buChar char="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ee00"/>
                </a:solidFill>
                <a:latin typeface="Tekton Pro Cond"/>
              </a:rPr>
              <a:t>Bandwidth: The amount of data &amp; speed at which the data can travel over the transmission med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39ee00"/>
              </a:buClr>
              <a:buFont typeface="Kozuka Gothic Pro B"/>
              <a:buChar char="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ee00"/>
                </a:solidFill>
                <a:latin typeface="Tekton Pro Cond"/>
              </a:rPr>
              <a:t>Client: A computer that accesses a server to request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8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650"/>
                            </p:stCondLst>
                            <p:childTnLst>
                              <p:par>
                                <p:cTn id="2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9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1050"/>
                            </p:stCondLst>
                            <p:childTnLst>
                              <p:par>
                                <p:cTn id="29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animClr clrSpc="rgb">
                                      <p:cBhvr>
                                        <p:cTn id="2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300"/>
                            </p:stCondLst>
                            <p:childTnLst>
                              <p:par>
                                <p:cTn id="303" nodeType="after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300"/>
                            </p:stCondLst>
                            <p:childTnLst>
                              <p:par>
                                <p:cTn id="310" nodeType="after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6300"/>
                            </p:stCondLst>
                            <p:childTnLst>
                              <p:par>
                                <p:cTn id="317" nodeType="after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7300"/>
                            </p:stCondLst>
                            <p:childTnLst>
                              <p:par>
                                <p:cTn id="32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533520"/>
            <a:ext cx="7010640" cy="5867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023200">
            <a:off x="1020960" y="839880"/>
            <a:ext cx="71629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Kozuka Gothic Pro B"/>
              <a:buChar char="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tencil Std"/>
              </a:rPr>
              <a:t>DSL: Digital Subscri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Kozuka Gothic Pro B"/>
              <a:buChar char="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tencil Std"/>
              </a:rPr>
              <a:t>Ethernet: A widely used protocol for lans that uses a bus or star topology and connects the network devices by twisted-pair wiring, coaxial cable, or fiber optic c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Kozuka Gothic Pro B"/>
              <a:buChar char="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tencil Std"/>
              </a:rPr>
              <a:t>Netiquette: The etiquette that should be followed when using a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3880" y="685800"/>
            <a:ext cx="6248520" cy="10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Palace Script MT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Protocol: A stand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Palace Script MT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Topology: The logical arrangement of the nodes on a networ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Palace Script MT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Wireless Networks: A type of network that does not require the use of cab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200"/>
                            </p:stCondLst>
                            <p:childTnLst>
                              <p:par>
                                <p:cTn id="38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1300"/>
                            </p:stCondLst>
                            <p:childTnLst>
                              <p:par>
                                <p:cTn id="387" nodeType="after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90" dur="123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91" dur="123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9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93" dur="123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e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660600">
            <a:off x="937080" y="-420480"/>
            <a:ext cx="6324840" cy="6700680"/>
          </a:xfrm>
          <a:prstGeom prst="rect">
            <a:avLst/>
          </a:prstGeom>
          <a:solidFill>
            <a:srgbClr val="e9eade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ff"/>
              </a:buClr>
              <a:buFont typeface="Kozuka Gothic Pro B"/>
              <a:buChar char="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urlz MT"/>
              </a:rPr>
              <a:t>Network Interface Card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: A circuit board that goes into the base unit of a computer or other device in a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ff"/>
              </a:buClr>
              <a:buFont typeface="Kozuka Gothic Pro B"/>
              <a:buChar char="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urlz MT"/>
              </a:rPr>
              <a:t>ISP: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 Internet Service Provider is a company that offers access to the internet for a f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ff"/>
              </a:buClr>
              <a:buFont typeface="Kozuka Gothic Pro B"/>
              <a:buChar char="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urlz MT"/>
              </a:rPr>
              <a:t>Web: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 A series of related web 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1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5000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4920" y="914400"/>
            <a:ext cx="10287000" cy="77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French Script MT"/>
              </a:rPr>
              <a:t>That’s The End!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Tribecca Trav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4</a:t>
            </a:r>
            <a:r>
              <a:rPr b="1" lang="en-US" sz="5400" spc="-1" strike="noStrike" baseline="30000">
                <a:solidFill>
                  <a:srgbClr val="000000"/>
                </a:solidFill>
                <a:latin typeface="French Script MT"/>
              </a:rPr>
              <a:t>th</a:t>
            </a: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 Period-Mrs.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April 16</a:t>
            </a:r>
            <a:r>
              <a:rPr b="1" lang="en-US" sz="5400" spc="-1" strike="noStrike" baseline="30000">
                <a:solidFill>
                  <a:srgbClr val="000000"/>
                </a:solidFill>
                <a:latin typeface="French Script MT"/>
              </a:rPr>
              <a:t>th</a:t>
            </a: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,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5:13Z</dcterms:created>
  <dc:creator>809277</dc:creator>
  <dc:description/>
  <dc:language>en-US</dc:language>
  <cp:lastModifiedBy>809277</cp:lastModifiedBy>
  <dcterms:modified xsi:type="dcterms:W3CDTF">2009-04-17T15:35:47Z</dcterms:modified>
  <cp:revision>7</cp:revision>
  <dc:subject/>
  <dc:title>Vocabulary 1</dc:title>
</cp:coreProperties>
</file>